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029-D12B-445A-A3BA-84278505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9B9-B2F7-438A-B053-E0978A5C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D38-C0F9-4E6E-A07E-E8099B5D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1C0-A404-41DE-98CB-F0F73C47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476-F49B-46DF-93CC-6CA7DF0B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6EA-BCEB-4E53-9BE4-DD8E262D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8CB-7504-4302-8490-320CBAFE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40E-93E5-4CF6-8439-095C838E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EC5-3B1A-42C5-A9D2-CF16F95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8DB-9A37-4060-B906-4DF36F1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55F-2D79-4A95-A885-E01D45A8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47F-3098-44BC-B375-ED5912C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CB4-6DEA-4648-911F-D268785B7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soner of War- Bataan Death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: Shane, Tyler, Kirk, and Mica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LeonardGSiffleet"/>
          <p:cNvPicPr/>
          <p:nvPr/>
        </p:nvPicPr>
        <p:blipFill>
          <a:blip r:embed="rId1"/>
          <a:stretch/>
        </p:blipFill>
        <p:spPr>
          <a:xfrm>
            <a:off x="2362320" y="0"/>
            <a:ext cx="441648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819520" y="59421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soner of war being executed in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en.wikipilipinas.org/images/thumb/5/5a/Route_map_of_BataanDeathMarch.jpg/300px-Route_map_of_BataanDeathMarch.jpg"/>
          <p:cNvPicPr/>
          <p:nvPr/>
        </p:nvPicPr>
        <p:blipFill>
          <a:blip r:embed="rId1"/>
          <a:stretch/>
        </p:blipFill>
        <p:spPr>
          <a:xfrm>
            <a:off x="685800" y="2819520"/>
            <a:ext cx="2857680" cy="378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batch2006.com/imag_orion/000_batan_map.jpg"/>
          <p:cNvPicPr/>
          <p:nvPr/>
        </p:nvPicPr>
        <p:blipFill>
          <a:blip r:embed="rId2"/>
          <a:stretch/>
        </p:blipFill>
        <p:spPr>
          <a:xfrm>
            <a:off x="4648320" y="342900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990720" y="8380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of the 70 mile march from Marveles to San Fern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2130"/>
          <p:cNvPicPr/>
          <p:nvPr/>
        </p:nvPicPr>
        <p:blipFill>
          <a:blip r:embed="rId1"/>
          <a:stretch/>
        </p:blipFill>
        <p:spPr>
          <a:xfrm>
            <a:off x="1143000" y="380880"/>
            <a:ext cx="6705720" cy="5800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066680" y="6216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ed prisoners of war with their hand tied behind their backs during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fourthmarinesband.com/bataan_march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19920" cy="40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523880" y="55627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ied soldiers during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enizaBataanDeathMarch"/>
          <p:cNvPicPr/>
          <p:nvPr/>
        </p:nvPicPr>
        <p:blipFill>
          <a:blip r:embed="rId1"/>
          <a:stretch/>
        </p:blipFill>
        <p:spPr>
          <a:xfrm>
            <a:off x="2057400" y="685800"/>
            <a:ext cx="4898880" cy="532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133720" y="6172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e allied prisoners being escorted by Japanese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aws3"/>
          <p:cNvPicPr/>
          <p:nvPr/>
        </p:nvPicPr>
        <p:blipFill>
          <a:blip r:embed="rId1"/>
          <a:stretch/>
        </p:blipFill>
        <p:spPr>
          <a:xfrm>
            <a:off x="765000" y="274680"/>
            <a:ext cx="7612200" cy="5851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057400" y="6248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ed prisoners on their way to Camp O’D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bataan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4000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219320" y="5334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ed prisoners were forced to carry all of Japan’s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large_american-troops-surrender"/>
          <p:cNvPicPr/>
          <p:nvPr/>
        </p:nvPicPr>
        <p:blipFill>
          <a:blip r:embed="rId1"/>
          <a:stretch/>
        </p:blipFill>
        <p:spPr>
          <a:xfrm>
            <a:off x="1066680" y="762120"/>
            <a:ext cx="6838920" cy="4951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371600" y="6019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soldiers being forced to give up their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eath"/>
          <p:cNvPicPr/>
          <p:nvPr/>
        </p:nvPicPr>
        <p:blipFill>
          <a:blip r:embed="rId1"/>
          <a:stretch/>
        </p:blipFill>
        <p:spPr>
          <a:xfrm>
            <a:off x="1303200" y="274680"/>
            <a:ext cx="6535800" cy="5851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752480" y="6216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 allied soldiers laying on the ground during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3:01:39Z</dcterms:created>
  <dc:creator>Information Technology</dc:creator>
  <dc:description/>
  <dc:language>en-US</dc:language>
  <cp:lastModifiedBy>Information Technology</cp:lastModifiedBy>
  <dcterms:modified xsi:type="dcterms:W3CDTF">2010-02-18T13:14:05Z</dcterms:modified>
  <cp:revision>7</cp:revision>
  <dc:subject/>
  <dc:title>Prisoner of War</dc:title>
</cp:coreProperties>
</file>